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35.jpeg" ContentType="image/jpeg"/>
  <Override PartName="/ppt/media/image30.wmf" ContentType="image/x-wmf"/>
  <Override PartName="/ppt/media/image34.wmf" ContentType="image/x-wmf"/>
  <Override PartName="/ppt/media/image38.gif" ContentType="image/gif"/>
  <Override PartName="/ppt/media/image40.gif" ContentType="image/gif"/>
  <Override PartName="/ppt/media/image36.wmf" ContentType="image/x-wmf"/>
  <Override PartName="/ppt/media/image39.gif" ContentType="image/gif"/>
  <Override PartName="/ppt/media/image41.gif" ContentType="image/gif"/>
  <Override PartName="/ppt/media/image42.gif" ContentType="image/gif"/>
  <Override PartName="/ppt/media/image43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12.wmf" ContentType="image/x-wmf"/>
  <Override PartName="/ppt/media/image28.wmf" ContentType="image/x-wmf"/>
  <Override PartName="/ppt/media/image37.jpeg" ContentType="image/jpeg"/>
  <Override PartName="/ppt/media/image3.wmf" ContentType="image/x-wmf"/>
  <Override PartName="/ppt/media/image3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9.jpeg" ContentType="image/jpeg"/>
  <Override PartName="/ppt/media/image1.wmf" ContentType="image/x-wmf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A40-9EE4-40C6-897D-97A1FE57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3F3-F52C-469C-AEFD-13FE5649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BD8-75D7-4658-A60A-EED6D7B1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30F-3FA4-40F7-9C4D-5FAAE41A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B91-C314-4E70-AF87-3B23B534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CB0-6AB7-42DE-8A17-DC334C7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833-D02E-47DC-8BA0-1D565A4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0ED-8236-4D62-B95A-5DD92DB8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C84-00E6-4F91-B458-EE9D9D9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0FE-4256-4E87-AFF3-05744A9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0D1-425A-4A2A-88A7-282C343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A86-F2B1-462D-81F0-49979A3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8F97-669D-4230-A4A3-6F8BF6B1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90512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Unit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Re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029200"/>
            <a:ext cx="19047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952880"/>
            <a:ext cx="160020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Word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029200"/>
            <a:ext cx="1523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8240" y="5278320"/>
            <a:ext cx="139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Shopping</a:t>
            </a:r>
            <a:r>
              <a:rPr b="0" lang="en-US" sz="2000" spc="-1" strike="noStrike" u="sng">
                <a:solidFill>
                  <a:srgbClr val="ccffcc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05520"/>
            <a:ext cx="1627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Tex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4952880"/>
            <a:ext cx="14475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84520" y="5278320"/>
            <a:ext cx="872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2680" y="0"/>
            <a:ext cx="5791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can I do for you ?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am looking for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a dress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’d like a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lk 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z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No , I don’t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dark green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I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light blue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oh, so beautiful, Can I try 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it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100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yu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04920" y="0"/>
          <a:ext cx="3521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3521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304920"/>
            <a:ext cx="685800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to  go shopping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71800" y="2286000"/>
            <a:ext cx="23432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52680" y="2962440"/>
            <a:ext cx="16718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PMingLiU"/>
              </a:rPr>
              <a:t>mod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PMingLiU"/>
              <a:ea typeface="PMingLiU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90920" y="4267080"/>
            <a:ext cx="288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elephone 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6021360"/>
            <a:ext cx="2057400" cy="593640"/>
            <a:chOff x="1219320" y="6021360"/>
            <a:chExt cx="2057400" cy="593640"/>
          </a:xfrm>
        </p:grpSpPr>
        <p:sp>
          <p:nvSpPr>
            <p:cNvPr id="124" name=""/>
            <p:cNvSpPr/>
            <p:nvPr/>
          </p:nvSpPr>
          <p:spPr>
            <a:xfrm>
              <a:off x="1219320" y="6095880"/>
              <a:ext cx="2057400" cy="519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200" y="6021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cc"/>
                  </a:solidFill>
                  <a:latin typeface="Arial Black"/>
                </a:rPr>
                <a:t>Websi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1523880"/>
            <a:ext cx="37335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You must have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MPUTR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31880" y="5992920"/>
            <a:ext cx="28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Black"/>
              </a:rPr>
              <a:t>How to  do next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HOPPER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3720" y="304920"/>
            <a:ext cx="457200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Search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00200"/>
            <a:ext cx="59436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nd the ads which you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743200"/>
            <a:ext cx="5486400" cy="5335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eck out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886200"/>
            <a:ext cx="68580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oose the shape and size you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181480"/>
            <a:ext cx="7924680" cy="68580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ll  in the form and credit car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380880"/>
            <a:ext cx="6858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676520"/>
            <a:ext cx="657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2666880"/>
            <a:ext cx="6238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380988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5257800"/>
            <a:ext cx="6858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_____ _____Beijing at 10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had already eaten breakfast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nt to the hot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47560" cy="83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895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nd  _____ _____our things in the  ho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53324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257800"/>
            <a:ext cx="21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5000" y="51814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Black"/>
              </a:rPr>
              <a:t>On Kunming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7520"/>
            <a:ext cx="1828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3168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5120" y="41148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521000" y="0"/>
            <a:ext cx="765000" cy="139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371600" y="2895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038480" y="0"/>
            <a:ext cx="221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t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4" name="PE03255_" descr=""/>
          <p:cNvPicPr/>
          <p:nvPr/>
        </p:nvPicPr>
        <p:blipFill>
          <a:blip r:embed="rId6"/>
          <a:stretch/>
        </p:blipFill>
        <p:spPr>
          <a:xfrm>
            <a:off x="2209680" y="4724280"/>
            <a:ext cx="2438640" cy="1524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61280" y="41162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Summer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..So adj. that sb.(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主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)can’t ( could n’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…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too adj.{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not adj.(opposite )enough{ 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1.The camera  is 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 me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 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00" y="152388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4382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y s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27511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960" y="3630600"/>
            <a:ext cx="55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The suit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u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10552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grand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was not 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you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zh-CN" sz="2400" spc="-1" strike="noStrike">
                <a:solidFill>
                  <a:srgbClr val="6600ff"/>
                </a:solidFill>
                <a:latin typeface="Arial Black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ga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8880" y="191304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c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1120" y="31734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920" y="4122720"/>
            <a:ext cx="52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it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0760" y="4503600"/>
            <a:ext cx="58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uit is not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bi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for me to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80" y="56116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y grandma was so </a:t>
            </a:r>
            <a:r>
              <a:rPr b="1" lang="zh-CN" sz="2400" spc="-1" strike="noStrike" u="sng">
                <a:solidFill>
                  <a:srgbClr val="ff66ff"/>
                </a:solidFill>
                <a:uFillTx/>
                <a:latin typeface="Arial Black"/>
              </a:rPr>
              <a:t>o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she could n’t  work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8800" y="602784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randma wa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5..This is such a heavy box that I can’t carry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12952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is is so heavy a box that I can’t carr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0" y="2362320"/>
            <a:ext cx="81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6.My sharpener fell under my desk .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0" y="3276720"/>
            <a:ext cx="88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y sharpener fell under my desk so that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4419720"/>
            <a:ext cx="94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7. I am going to the stadium early in order to get a good sea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5181480"/>
            <a:ext cx="92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I am going to the stadium early so that I can get a good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The trousers on the shelf look very nice and you’d  better_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ry on it   B.Try it on   C.Try on them  D.Try the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His shoes_________, He had better buy  a new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rs out  B.worn out  C.is worn out   D.are wor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He was excited about ____first prize in the city surfing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in           B.To win      C.Winning       D.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Have you got___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Cheaper anything.          B.Cheaper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Something cheaper.        D.Anything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500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557680"/>
            <a:ext cx="1074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is pair of shoes _______her 1000 y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cost  B.costs  C.was cost D. is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He heard someone _______Beijing Opera in the nex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ings B. sang C. singing D. 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The question is ______difficult _____no one can answer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uch ,that B. so ,  that C. too, to D. very ,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The hotel ___ filled by the time they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has been B. was C. had been D.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The camera seemed to offer the most ______the best pr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.in  B.of C. with D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____this T-shi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that  one is fit for you . They are too big.  A. Either , or  B. Neither , nor C. Both , and  D. Between 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6240" y="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220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7760" y="217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85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06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8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lower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90920" y="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words and phr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0036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4952880"/>
            <a:ext cx="1752480" cy="381240"/>
          </a:xfrm>
          <a:custGeom>
            <a:avLst/>
            <a:gdLst>
              <a:gd name="textAreaLeft" fmla="*/ 706680 w 1752480"/>
              <a:gd name="textAreaRight" fmla="*/ 1518480 w 1752480"/>
              <a:gd name="textAreaTop" fmla="*/ 280080 h 381240"/>
              <a:gd name="textAreaBottom" fmla="*/ 330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8742"/>
                </a:moveTo>
                <a:lnTo>
                  <a:pt x="15857" y="18742"/>
                </a:lnTo>
                <a:lnTo>
                  <a:pt x="15857" y="8710"/>
                </a:lnTo>
                <a:lnTo>
                  <a:pt x="12972" y="8710"/>
                </a:lnTo>
                <a:lnTo>
                  <a:pt x="17286" y="0"/>
                </a:lnTo>
                <a:lnTo>
                  <a:pt x="21600" y="8710"/>
                </a:lnTo>
                <a:lnTo>
                  <a:pt x="18715" y="8710"/>
                </a:lnTo>
                <a:lnTo>
                  <a:pt x="187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30481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0666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WALL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3733560" cy="23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120" y="361152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the Great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2320" y="31543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</a:rPr>
              <a:t>the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9640" y="60498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440" y="495288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tre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ocea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riend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iss%20malaysia" descr=""/>
          <p:cNvPicPr/>
          <p:nvPr/>
        </p:nvPicPr>
        <p:blipFill>
          <a:blip r:embed="rId1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51920" y="0"/>
            <a:ext cx="57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And he gave me……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you......!!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Great Hall of 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Beihai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63244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Summ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7600" y="6019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Tian’anme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n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411280"/>
          </a:xfrm>
          <a:prstGeom prst="rect">
            <a:avLst/>
          </a:prstGeom>
          <a:ln w="0">
            <a:noFill/>
          </a:ln>
        </p:spPr>
      </p:pic>
      <p:pic>
        <p:nvPicPr>
          <p:cNvPr id="65" name="ren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ren" descr=""/>
          <p:cNvPicPr/>
          <p:nvPr/>
        </p:nvPicPr>
        <p:blipFill>
          <a:blip r:embed="rId3"/>
          <a:stretch/>
        </p:blipFill>
        <p:spPr>
          <a:xfrm>
            <a:off x="0" y="320040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ren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3962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15272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362320"/>
            <a:ext cx="228600" cy="228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304920" cy="3808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0"/>
            <a:ext cx="2514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xplan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19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I need a new pair of shoes , this on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HERLDR1" descr=""/>
          <p:cNvPicPr/>
          <p:nvPr/>
        </p:nvPicPr>
        <p:blipFill>
          <a:blip r:embed="rId3"/>
          <a:stretch/>
        </p:blipFill>
        <p:spPr>
          <a:xfrm>
            <a:off x="6934320" y="2286000"/>
            <a:ext cx="1474560" cy="196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 am ver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ing the World Cup Match .(I  am so happy, I can’t help dancing in my ro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n 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1040" y="2819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cit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200" y="4343400"/>
            <a:ext cx="66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_____ ____ _______ in the world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will visit them all in some day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0800" y="43084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ces of 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91120" y="51814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377120" y="4183200"/>
            <a:ext cx="1766880" cy="26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555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ITYSTR2" descr=""/>
          <p:cNvPicPr/>
          <p:nvPr/>
        </p:nvPicPr>
        <p:blipFill>
          <a:blip r:embed="rId1"/>
          <a:stretch/>
        </p:blipFill>
        <p:spPr>
          <a:xfrm>
            <a:off x="380880" y="0"/>
            <a:ext cx="7925040" cy="422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4419720"/>
            <a:ext cx="4952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7880" y="45244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685800"/>
            <a:ext cx="16002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pap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676520" y="685800"/>
            <a:ext cx="2133360" cy="825480"/>
            <a:chOff x="1676520" y="685800"/>
            <a:chExt cx="2133360" cy="825480"/>
          </a:xfrm>
        </p:grpSpPr>
        <p:sp>
          <p:nvSpPr>
            <p:cNvPr id="91" name=""/>
            <p:cNvSpPr/>
            <p:nvPr/>
          </p:nvSpPr>
          <p:spPr>
            <a:xfrm>
              <a:off x="1676520" y="685800"/>
              <a:ext cx="2133360" cy="761760"/>
            </a:xfrm>
            <a:prstGeom prst="wedgeEllipseCallout">
              <a:avLst>
                <a:gd name="adj1" fmla="val 21356"/>
                <a:gd name="adj2" fmla="val 814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6680" y="6858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‘d lik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iece of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16002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2895480"/>
            <a:ext cx="2819160" cy="25909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售货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12189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705720" y="685800"/>
            <a:ext cx="1981080" cy="866880"/>
            <a:chOff x="6705720" y="685800"/>
            <a:chExt cx="1981080" cy="866880"/>
          </a:xfrm>
        </p:grpSpPr>
        <p:sp>
          <p:nvSpPr>
            <p:cNvPr id="97" name=""/>
            <p:cNvSpPr/>
            <p:nvPr/>
          </p:nvSpPr>
          <p:spPr>
            <a:xfrm>
              <a:off x="6705720" y="685800"/>
              <a:ext cx="1981080" cy="838080"/>
            </a:xfrm>
            <a:prstGeom prst="wedgeEllipseCallout">
              <a:avLst>
                <a:gd name="adj1" fmla="val -50402"/>
                <a:gd name="adj2" fmla="val 698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7760" y="7272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for yo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0" y="1447920"/>
            <a:ext cx="1371600" cy="914400"/>
            <a:chOff x="2286000" y="1447920"/>
            <a:chExt cx="1371600" cy="914400"/>
          </a:xfrm>
        </p:grpSpPr>
        <p:sp>
          <p:nvSpPr>
            <p:cNvPr id="100" name=""/>
            <p:cNvSpPr/>
            <p:nvPr/>
          </p:nvSpPr>
          <p:spPr>
            <a:xfrm>
              <a:off x="2286000" y="1447920"/>
              <a:ext cx="1371600" cy="914400"/>
            </a:xfrm>
            <a:prstGeom prst="cloudCallout">
              <a:avLst>
                <a:gd name="adj1" fmla="val 64467"/>
                <a:gd name="adj2" fmla="val 494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590920" y="1600200"/>
              <a:ext cx="7506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92736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91320" y="2971800"/>
            <a:ext cx="75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00600" y="0"/>
          <a:ext cx="327672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0880" y="3276720"/>
          <a:ext cx="350532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276720"/>
                    <a:ext cx="3505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76920" y="3429000"/>
          <a:ext cx="3352680" cy="34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352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60080" y="533520"/>
            <a:ext cx="558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can I do for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am looking for a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’d like a silk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Siz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No , I don’t like dark green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I like ligh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oh, so beautiful, Can I try it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100 yu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16765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example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295280"/>
          <a:ext cx="2666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2666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25:26Z</dcterms:created>
  <dc:creator>vicky</dc:creator>
  <dc:description/>
  <dc:language>en-US</dc:language>
  <cp:lastModifiedBy>aa</cp:lastModifiedBy>
  <dcterms:modified xsi:type="dcterms:W3CDTF">2003-06-28T02:39:57Z</dcterms:modified>
  <cp:revision>23</cp:revision>
  <dc:subject/>
  <dc:title>PowerPoint 演示文稿</dc:title>
</cp:coreProperties>
</file>